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87A-59C3-4BEC-86E6-46C458A7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F72-CED7-4F45-916D-BCDD40C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A71-A4F8-4277-A19B-082C389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F37-1932-4F57-A205-DF5404F4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B7F-4C65-4F85-9E1D-96520A6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7C0-042C-455D-A159-C41EA414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793-1A19-459C-A64B-0937B1F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7AD-FAFF-4B76-904D-9B23365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68E-04D2-452B-A292-3E98503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A43-14A2-404A-80E3-A632415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9F8-AB9D-4ABD-8DB8-A5CBB3E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EA8-FCBA-4DD2-91CC-D38BD77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C74A7-9872-4C64-ABA8-4A75EC919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2B811-48D7-412A-903A-ABB375A84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6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7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20.jpg"/>
          <p:cNvPicPr/>
          <p:nvPr/>
        </p:nvPicPr>
        <p:blipFill>
          <a:blip r:embed="rId1"/>
          <a:stretch/>
        </p:blipFill>
        <p:spPr>
          <a:xfrm>
            <a:off x="0" y="262080"/>
            <a:ext cx="6858000" cy="86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2314440" y="312264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3240">
                  <a:solidFill>
                    <a:srgbClr val="f2f2f2"/>
                  </a:solidFill>
                  <a:miter/>
                </a:ln>
                <a:gradFill rotWithShape="0">
                  <a:gsLst>
                    <a:gs pos="0">
                      <a:srgbClr val="f79646"/>
                    </a:gs>
                    <a:gs pos="100000">
                      <a:srgbClr val="f9b47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de9d9">
                      <a:alpha val="50000"/>
                    </a:srgbClr>
                  </a:outerShdw>
                </a:effectLst>
                <a:latin typeface="Garamond"/>
              </a:rPr>
              <a:t>The End</a:t>
            </a:r>
            <a:endParaRPr b="1" lang="en-US" sz="5400" spc="1" strike="noStrike">
              <a:ln w="3240">
                <a:solidFill>
                  <a:srgbClr val="f2f2f2"/>
                </a:solidFill>
                <a:miter/>
              </a:ln>
              <a:gradFill rotWithShape="0">
                <a:gsLst>
                  <a:gs pos="0">
                    <a:srgbClr val="f79646"/>
                  </a:gs>
                  <a:gs pos="100000">
                    <a:srgbClr val="f9b47b"/>
                  </a:gs>
                </a:gsLst>
                <a:lin ang="5400000"/>
              </a:gradFill>
              <a:effectLst>
                <a:outerShdw dist="153753" dir="2700000" blurRad="0" rotWithShape="0">
                  <a:srgbClr val="fde9d9">
                    <a:alpha val="5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284040"/>
            <a:ext cx="6858000" cy="85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2:37:11Z</dcterms:created>
  <dc:creator>Beverly Moshier</dc:creator>
  <dc:description/>
  <dc:language>en-US</dc:language>
  <cp:lastModifiedBy>Beverly Moshier</cp:lastModifiedBy>
  <dcterms:modified xsi:type="dcterms:W3CDTF">2012-03-05T12:53:17Z</dcterms:modified>
  <cp:revision>1</cp:revision>
  <dc:subject/>
  <dc:title>Slide 1</dc:title>
</cp:coreProperties>
</file>